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385-5B4D-459D-8925-14690863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97FC-6CE3-4F39-8703-FE50A633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D49-1FB2-44B0-8D9A-5FD954D9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655-17C6-4328-A3FA-9FF0DCE5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363-1C02-44CB-9E58-E5DF2703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F17-F3C5-4252-873C-6B3D2525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6BF-37DA-45DB-99D1-64EE2FBD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85C-C0AE-47F2-B17D-6CDC7481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B7A-5A67-4629-9C7C-F6466C60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646-9B6F-4C74-B5BE-84A2E1BC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BEC-D835-4530-91A2-CE2442B1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D11-799F-458E-830E-4CACC26F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15F2-CAF4-467E-BF08-F61DC52C6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2209680"/>
            <a:ext cx="8458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Once More With a .4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6720" y="5791320"/>
            <a:ext cx="293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eter Brandv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cc00"/>
                </a:solidFill>
                <a:latin typeface="Arial"/>
              </a:rPr>
              <a:t>Ben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99cc00"/>
                </a:solidFill>
                <a:latin typeface="Arial"/>
              </a:rPr>
              <a:t>Still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cc00"/>
                </a:solidFill>
                <a:latin typeface="Arial"/>
              </a:rPr>
              <a:t>Fay Still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vely black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0000"/>
                </a:solidFill>
                <a:latin typeface="Arial"/>
              </a:rPr>
              <a:t>Jody Har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380880"/>
            <a:ext cx="6629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oper Black"/>
              </a:rPr>
              <a:t>Stillman suddenly transformed from Mr. Easygoing, Aw-Shucks sheriff of Clantick to Mr. No-Nonsense Ass-Kicker, his voice taut as Glidden w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-14400"/>
            <a:ext cx="0" cy="175284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752480"/>
            <a:ext cx="80010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29600" y="0"/>
            <a:ext cx="0" cy="175248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0"/>
            <a:ext cx="80010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905120"/>
            <a:ext cx="8153280" cy="1191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oper Black"/>
              </a:rPr>
              <a:t>The lawman raised his right forearm, deflecting the blow, and smashed a powerful left hook into the side of Smith's face, making a cracking sound, causing blood to spurt from the nose that was suddenly lying flat against the drover's ch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276720"/>
            <a:ext cx="8534520" cy="119124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relatively featureless terrain was interrupted here and there by wooded watercourses, small ranch operations, and farms with patches of oats and hay flanking a sod shack and pole corral, two or three hard-eyed youngsters staring as Stillman cantered past, ignoring his w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724280"/>
            <a:ext cx="3886200" cy="1739880"/>
          </a:xfrm>
          <a:prstGeom prst="rect">
            <a:avLst/>
          </a:prstGeom>
          <a:noFill/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oper Black"/>
              </a:rPr>
              <a:t>It stank of beer and whiskey fermenting in cedar barrels in the long, dry grass out back, where a privy sat sunbaked and leaning toward the hillock that flanke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5257800"/>
            <a:ext cx="4724280" cy="916920"/>
          </a:xfrm>
          <a:prstGeom prst="rect">
            <a:avLst/>
          </a:prstGeom>
          <a:noFill/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oper Black"/>
              </a:rPr>
              <a:t>There was the thump and smack of knuckles against flesh, and the grunts of air expunged from weakening lu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5:17:23Z</dcterms:created>
  <dc:creator>School District 14</dc:creator>
  <dc:description/>
  <dc:language>en-US</dc:language>
  <cp:lastModifiedBy>School District 14</cp:lastModifiedBy>
  <dcterms:modified xsi:type="dcterms:W3CDTF">2010-01-15T15:33:23Z</dcterms:modified>
  <cp:revision>6</cp:revision>
  <dc:subject/>
  <dc:title>Slide 1</dc:title>
</cp:coreProperties>
</file>